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1AD-3D0A-46D9-A649-B651B132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961-DD4D-4041-BB72-E6A9928D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7EB-98D6-49D1-9D6D-CF597A13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82F-02ED-49FB-9181-6E7478D5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1AE5-E836-4C87-B53A-CAAF0081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4CDA-2B1F-4691-8556-1B4FF7EF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17BB-D322-42F8-8EB2-ED38F5EC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E8FB-8625-4F5D-BEDD-1E104C54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E060-583A-4283-8395-F8CE8235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4A97-830C-458D-9229-0736EAC9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B9B8-2C8C-4E8C-9587-B6DBBF5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872-682D-4186-A997-F708F871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1649-C41A-4B92-8891-75FD92AC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D74B-B54B-48AB-A6E1-7E2DC9F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A155-E641-4C59-9189-EB9B3DCD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DF31-9936-4E3D-968E-74F1C13A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97E9-88EB-4018-8D82-18108C53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892-762D-4EFE-B94D-A510F9BD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78E-74AD-4312-A3DD-48DAB528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30A-8E1D-442E-8E99-24123AC6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765-21A2-4B07-AA84-853309CD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31F-9845-41F0-A5B1-F730598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759-D13A-43A0-B318-DFE61F80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CA7-7265-4EB5-903E-C44A8B9C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E9FE-4515-49C5-AFF3-9B55FA2FDE6C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594E-3D48-40EA-92FD-D4134D9582BE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ecff"/>
                </a:solidFill>
                <a:latin typeface="Arial"/>
              </a:rPr>
              <a:t>EMBALAJE DE UNA MAINBOAR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EL B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DENTIFICACION DE LA PLAC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3324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CONECTOR AM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CUBRIMIENTO DE LAS RANURAS P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RANURAS P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RANURA AG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SOLO PARA AGP P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CONMUT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TABLA SERIGRAFIADA DE SW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TABLA DE SW EN EL MANU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0800" y="1600200"/>
            <a:ext cx="4830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INCLUYE MANUALES, CABLES, SOFTWARE DE CONFIGURAC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7662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CHIP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CALCOMANIA EN EL SOCK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SE RETI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SOCKET 462 PARA AM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SIP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3097080" cy="2408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2880000" cy="2447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19640" y="4365720"/>
            <a:ext cx="2916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CONECTOR DE ALIMENTAC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922920" cy="4248360"/>
          </a:xfrm>
          <a:prstGeom prst="rect">
            <a:avLst/>
          </a:prstGeom>
          <a:ln w="0">
            <a:noFill/>
          </a:ln>
        </p:spPr>
      </p:pic>
      <p:pic>
        <p:nvPicPr>
          <p:cNvPr id="208" name="_Y29uZWN0b3JfYXQ=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2376360" cy="961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155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T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35640" y="155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CONECTOR USB FRONT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CHIPSET SU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PILA CR2032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CONECTORES IDE Y FLOPP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ESTE ES EL MANU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CONECTORES DE DATOS Y ENERG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248360" cy="3529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3923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INTERFAZ S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00720" y="1916280"/>
            <a:ext cx="4032000" cy="3168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403236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CALCOMANIA EN SLOT DE MEMOR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RANURAS DE MEMORIA DD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RANURAS SIM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RANURAS DIMM DE MEMOR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JUMP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943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DETALLE CONECTORES FRONTA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62012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F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32000" y="1600200"/>
            <a:ext cx="62593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VISTA DE PUER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443640" y="1557360"/>
            <a:ext cx="2700360" cy="3456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64087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SE OBSERVAN LAS CARACTERISTIC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7847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PUERTO LTP Y 2 SERI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PUERTO DE JUEGO Y SONID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ALGUNAS DE EL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42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LA MAINBOARD EN SU CA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FOTO DE LA ARQUITEC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64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LAS PRIMERAS MAINBO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Tarjeta Madre"/>
          <p:cNvPicPr/>
          <p:nvPr/>
        </p:nvPicPr>
        <p:blipFill>
          <a:blip r:embed="rId1"/>
          <a:stretch/>
        </p:blipFill>
        <p:spPr>
          <a:xfrm>
            <a:off x="1332000" y="1484280"/>
            <a:ext cx="604836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AGUJEROS DE ATORNILLADO DE FIJACION DE LA PLAC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5502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20:24:00Z</dcterms:created>
  <dc:creator>Carlos Alberto Ruiz</dc:creator>
  <dc:description/>
  <dc:language>en-US</dc:language>
  <cp:lastModifiedBy>jem</cp:lastModifiedBy>
  <dcterms:modified xsi:type="dcterms:W3CDTF">2005-10-26T00:31:55Z</dcterms:modified>
  <cp:revision>34</cp:revision>
  <dc:subject/>
  <dc:title>EMBALAJE DE UNA MAINBOARD</dc:title>
</cp:coreProperties>
</file>